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214-71A6-40BC-821B-2728A563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DA0-8604-4C20-A2FF-EC570142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622-8A12-4C27-928B-1F403820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9AA-085C-4DCA-9C4E-798C74BE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4A2-196A-45E0-8437-B9F29BB0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DBA-4858-4224-AA4D-36348C6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F49-AE5D-4F71-AA6A-5A4E065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4B9-15A2-4B97-8D79-2B872370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61E-B1A4-4CC9-A117-52EA219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3A4-8C07-440E-AF06-F23F3CF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97D-C5FB-42EB-ABF2-391CEE1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5CC-8C80-4F6B-B041-63EEBA8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D8E-8337-4B93-86C2-EECF9B43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0340895&amp;id=12711318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ley Goodw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 graduate June,9,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76520"/>
            <a:ext cx="3621240" cy="363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9560" y="1198440"/>
            <a:ext cx="5923080" cy="445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sh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184800" cy="411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295280" y="5335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495960" cy="52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762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794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17640" y="1592280"/>
            <a:ext cx="5506920" cy="36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92880" cy="3662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43000" y="6858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46720" cy="3555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97560" cy="3664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676520" y="304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on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9360" y="431640"/>
            <a:ext cx="4443480" cy="599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1760" y="682560"/>
            <a:ext cx="3660480" cy="549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664080" cy="5496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2952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6:43Z</dcterms:created>
  <dc:creator>bal_crgoodwin001</dc:creator>
  <dc:description/>
  <dc:language>en-US</dc:language>
  <cp:lastModifiedBy>C</cp:lastModifiedBy>
  <dcterms:modified xsi:type="dcterms:W3CDTF">2009-05-22T21:51:30Z</dcterms:modified>
  <cp:revision>6</cp:revision>
  <dc:subject/>
  <dc:title>Riley Goodwin </dc:title>
</cp:coreProperties>
</file>